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1C7B-7C75-4BC1-ADE2-4E212E5E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AFC9-F004-42E2-8E55-7436CD55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3167-116C-4611-9298-3D6EA041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3035-C6C8-4CE6-A99C-636CF797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-level - direct transfer of phosphate to 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ve - formation of ATP using energy from series of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BC9-F81E-4D14-93C4-A04F30D0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079-EDFA-4DA6-A97C-2644F35B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088F-3260-45A4-8F79-2A040EDF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2E69-15D4-4C07-B015-9152797D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 - bacteria that cause botulism, tetanus, protist Trichonym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 - yeast, E. coli bacteria that live in our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3932-AA7F-4351-B2DD-1E6DBDCA7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sdbio.weebly.com/phtoresp1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252C-367A-4F72-A788-C467B646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actfictionfancy.wordpress.com/2010/01/05/photosynthe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E814-94ED-47BC-A495-6A76BE7A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E722-8D48-4396-81BA-00B86E8B0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BE7-5276-45EE-8067-894E4B41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9E3-FA3C-43FF-AEA5-98A06AAF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E50-7B38-4969-8370-356466D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D2F-E5C9-47DA-9ECC-14100D40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5BA-A6D7-4462-AE5B-B8FDA48D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3B7-BE68-4276-8123-7D6D66A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0D3-640B-4AB7-B2C8-DD4BD1F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9B9-DAB4-41CA-BBCA-DDA1002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C3C-AEAB-41BE-BD1A-130629E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EE0-4780-4CB5-A3B8-9C8AA68D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078-1EB5-480A-AD1F-34F4959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CA1-63A6-4590-9FC3-5C35117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FFA-E7B1-48D8-8251-E0125BF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5DC-4B10-406E-BE3C-011DB142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p_summary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SLP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oxphos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mitochondriafigure1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bligate aerob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31" descr="5726226_orig"/>
          <p:cNvPicPr/>
          <p:nvPr/>
        </p:nvPicPr>
        <p:blipFill>
          <a:blip r:embed="rId1"/>
          <a:stretch/>
        </p:blipFill>
        <p:spPr>
          <a:xfrm>
            <a:off x="2357280" y="304920"/>
            <a:ext cx="435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chemicalformula2s"/>
          <p:cNvPicPr/>
          <p:nvPr/>
        </p:nvPicPr>
        <p:blipFill>
          <a:blip r:embed="rId1"/>
          <a:stretch/>
        </p:blipFill>
        <p:spPr>
          <a:xfrm>
            <a:off x="304920" y="185580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resp_summary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7-05-30T18:36:06Z</dcterms:modified>
  <cp:revision>64</cp:revision>
  <dc:subject/>
  <dc:title>Cellular Respiration</dc:title>
</cp:coreProperties>
</file>